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981-6027-4B3D-8CE2-B061C32C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98AA-642A-4B8E-95EF-79AF9465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FEF-CD49-4CD7-BA3B-775EA22F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8E8-F643-436B-9253-7471086F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38A-8C34-4B1A-B3EE-A2DD5157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DDB-A88B-4FC9-A98D-208A192D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077-0901-4803-B03A-4D91362C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C0D3-9741-4E85-A428-9B74F528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F9A-AADE-47B6-9F6C-4BBEDA66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B93-3D01-44F5-9DDA-DA72190D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309D-879A-43F8-ADDB-63C3D667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01F-4B72-4C4F-9A19-5E2A75CD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976F-650C-4152-8D5C-ED4AAD8178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pidemiologic Study Desig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ncy D. Barker, 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Descriptive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rganize and summarize data according to time, place, and person. 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natural history of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t of public health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populations at greates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cation of health car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gest hypothesis about cau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Analytic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ntif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association between an exposure (E) and a health outcome (D), and to test hypotheses about causal relationshi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a control group (basel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hypotheses about determin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us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any research field involving the conduct of scientific investigations and the analysis of data derived from such investigations to test etiologic hypotheses, the assessment of causality is a complicated issu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particular, the ability to make causal inferences in the health sciences typically depends on synthesizing results from several studies, both epidemiologic and non-epidemiologic (e.g., laboratory or clinical findings)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ural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resses ethical conc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dvantag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randomization – investigator can only account for variables measu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ommon Observational Study Design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-sectiona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sign Op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Direction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400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3046" t="7012" r="6040" b="12012"/>
          <a:stretch/>
        </p:blipFill>
        <p:spPr>
          <a:xfrm>
            <a:off x="3505320" y="1523880"/>
            <a:ext cx="1676160" cy="1443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7171" t="4512" r="10707" b="14634"/>
          <a:stretch/>
        </p:blipFill>
        <p:spPr>
          <a:xfrm>
            <a:off x="3429000" y="4343400"/>
            <a:ext cx="167652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exposure variable is observed relative in time to when the health outcome is obser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57913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ward 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114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ward 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362320" y="1523880"/>
            <a:ext cx="426708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ckwards 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438280" y="1752480"/>
            <a:ext cx="4191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pidemiologic Study Design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n of an empirical investigation to assess an E – D relationship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cohol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w hambur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ealth 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st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C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ng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ckwards 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057400" y="1676520"/>
            <a:ext cx="4267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on-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133720" y="1600200"/>
            <a:ext cx="4572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im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ing concerns whether the health outcome of interest, and therefore all study events, has already occurred before the study actually beg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1966" t="29440" r="1966" b="38691"/>
          <a:stretch/>
        </p:blipFill>
        <p:spPr>
          <a:xfrm>
            <a:off x="2819520" y="3657600"/>
            <a:ext cx="3733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trospec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133720" y="1600200"/>
            <a:ext cx="44193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spec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209680" y="1600200"/>
            <a:ext cx="434340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trospective or Prospec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003" t="2654" r="2003" b="9939"/>
          <a:stretch/>
        </p:blipFill>
        <p:spPr>
          <a:xfrm>
            <a:off x="2133720" y="1523880"/>
            <a:ext cx="44193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ality:  Always 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ing:  Prospective or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2003" t="2654" r="2003" b="9939"/>
          <a:stretch/>
        </p:blipFill>
        <p:spPr>
          <a:xfrm>
            <a:off x="2209680" y="1371600"/>
            <a:ext cx="42674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ynony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-up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itudina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idence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hort Study 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spec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ingham Heart Study (ActivEp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trospec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DTs and spontaneous abort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ctivEp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Exposure Variable in Cohort Studi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E is common, sample from large population, then divide into E and not 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E is rare, sample E from special population, then sample not E from external comparison gro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tion:  Healthy worker eff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 of Epidemiologic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al:  Randomization to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al:  No randomiz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rwa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rectio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e of certai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lec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i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ospec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hort less prone to obtaining incorrect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study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r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ful for examin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po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trospec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hort study is low-cost and quick, e.g., occupational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specti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hort study is costly and time consu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subjects from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gration, lack of participation, withdrawal and de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eads to b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ally and practical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effici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rare diseases with long lat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xposed may b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llowed more closel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 the unexp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of Ef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sk Ratio (Cumulative incidence – ris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 Ratio (Incidence density – r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362320" y="2743200"/>
            <a:ext cx="3200400" cy="2416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3997" t="12580" r="2003" b="79484"/>
          <a:stretch/>
        </p:blipFill>
        <p:spPr>
          <a:xfrm>
            <a:off x="2362320" y="5105520"/>
            <a:ext cx="3200400" cy="37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2703" t="53348" r="2703" b="11829"/>
          <a:stretch/>
        </p:blipFill>
        <p:spPr>
          <a:xfrm>
            <a:off x="2362320" y="5410080"/>
            <a:ext cx="3200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408" t="1865" r="1408" b="8587"/>
          <a:stretch/>
        </p:blipFill>
        <p:spPr>
          <a:xfrm>
            <a:off x="2514600" y="1295280"/>
            <a:ext cx="4114800" cy="3105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ality:  Always backw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ing:  Always Retro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control studies of aspirin and Reye's syndrome (ActivEp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control study of animal food products and Creutzfeldt-Jakob disease (ActivEp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aper, quic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fficient number of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er sample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ariety of expo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allow several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of disease cannot be estimated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ion b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b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for rare expo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urce popula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which the cases deri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pulation-base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Cases and controls come from the same source pop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spital-ba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Easily accessible, tend to be cooperative, and are in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Not usually representative of the source population and may represent an illness caused by the expo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of Ef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ds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2003" t="3142" r="3997" b="27988"/>
          <a:stretch/>
        </p:blipFill>
        <p:spPr>
          <a:xfrm>
            <a:off x="2895480" y="2438280"/>
            <a:ext cx="3810240" cy="2876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2003" t="54976" r="2003" b="18551"/>
          <a:stretch/>
        </p:blipFill>
        <p:spPr>
          <a:xfrm>
            <a:off x="2895480" y="5257800"/>
            <a:ext cx="38102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oss-Sectiona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003" t="3142" r="2003" b="6784"/>
          <a:stretch/>
        </p:blipFill>
        <p:spPr>
          <a:xfrm>
            <a:off x="2438280" y="1295280"/>
            <a:ext cx="3886200" cy="2934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ality:  Always Non-direc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ing:  Always Retro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eriment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11549" r="0" b="0"/>
          <a:stretch/>
        </p:blipFill>
        <p:spPr>
          <a:xfrm>
            <a:off x="2286000" y="1523880"/>
            <a:ext cx="4495680" cy="2324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vestigator through randomization allocates subjects to different categories of expo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ization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n  allocation procedure that assigns subjects into (one of the) exposure groups being compared so that each subject has the same probability of being in one group as in any oth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oss-Sectiona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nient and in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consider several exposures and several dis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generate hypothe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represents the general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oss-Sectiona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not establish whether the exposure preceded disease or disease influenced expo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dentify only prevalent cases rather than incident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bias since only survivors are available for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under-represent diseases with short d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oss-Sectiona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-Sectional Study of Smoking and Peripheral Vascular Disease (ActivEp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oss-Sectiona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of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alence ratio (P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alence odds ratio (P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2854" t="1890" r="1427" b="7298"/>
          <a:stretch/>
        </p:blipFill>
        <p:spPr>
          <a:xfrm>
            <a:off x="2209680" y="3200400"/>
            <a:ext cx="441972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ybrid Desig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 the elements of at least two basic designs, or extend the strategy of one basic design through repeti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se-Coh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sted Case-Control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complete</a:t>
            </a: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sig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n which information is missing on one or more relevant fac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logic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al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pi Companion Textbook; Kleinbaum, Sullivan, B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les of Epidemiology; CDC Self-Study 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idemiology in Medicine; Hennekens, Bu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in Public Health: Quantitative Approaches to Public Health Problems; Stroup, Teuts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-Control Studies; Schlessel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ndomiz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nds  to make demographic, behavioral, genetic, and other characteristics of the comparison groups similar except for their exposure statu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f  the study finds any difference in health outcome between the comparison groups, that difference can only be attributable to their difference in exposure statu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3915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eriment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ization – unmeasured variables evenly distributed among expo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for bias is 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dvantag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hical conc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ngth of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good for rare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54343" r="0" b="0"/>
          <a:stretch/>
        </p:blipFill>
        <p:spPr>
          <a:xfrm>
            <a:off x="1981080" y="1371600"/>
            <a:ext cx="5181840" cy="21668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or observes the exposure and outcome status of 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Epidemiologic studies are observ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ve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tic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3:41:09Z</dcterms:created>
  <dc:creator>Nancy Barker</dc:creator>
  <dc:description/>
  <dc:language>en-US</dc:language>
  <cp:lastModifiedBy>Nancy Barker</cp:lastModifiedBy>
  <dcterms:modified xsi:type="dcterms:W3CDTF">2004-06-12T12:41:04Z</dcterms:modified>
  <cp:revision>116</cp:revision>
  <dc:subject/>
  <dc:title>Epidemiologic Study Designs</dc:title>
</cp:coreProperties>
</file>